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897-D5A5-4EF3-A2CC-0AB9266E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concept is explained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green-innovations.asn.au/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lax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theory of social change explains why so many different efforts to stimulate behaviour change produce no immediate results.  It is a useful theory for framing a multi stage change strategy that can move people through to the point of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3C8-5AFE-46ED-9624-4BAFA72A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6D4-9B1A-482A-B855-116DF334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B10-9F2A-481A-B90B-B711C5EB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5FF-0097-4A3E-AC6D-0C0EDFE8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CE0-5CFF-4B4C-B084-FB5EF0B1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466-C9DA-41BF-B238-4DA5FFD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251-E49B-416B-B8D5-7E87347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47A-1C94-4B3A-9814-CE5391C4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E2A-73E7-449E-B7D2-5BD44C7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41C-F21E-4833-8DC4-5CA88AC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5B8-BC90-4D70-80A0-B505644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221-12E4-4939-8778-2C05D30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787-B194-4BCB-8C87-B07FE8C4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352440"/>
          <a:ext cx="8810640" cy="61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2440"/>
                    <a:ext cx="881064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ndust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sectors to locat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olutions - build up from supply ch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n can reconstruct the model of regional economies and new industry sectors by aggregating new supply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llenge and rel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ww.green-innovations.asn.au/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lax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90720" y="2133720"/>
            <a:ext cx="7772400" cy="3081240"/>
            <a:chOff x="990720" y="2133720"/>
            <a:chExt cx="7772400" cy="3081240"/>
          </a:xfrm>
        </p:grpSpPr>
        <p:sp>
          <p:nvSpPr>
            <p:cNvPr id="96" name=""/>
            <p:cNvSpPr/>
            <p:nvPr/>
          </p:nvSpPr>
          <p:spPr>
            <a:xfrm>
              <a:off x="1130400" y="2502000"/>
              <a:ext cx="7632720" cy="1587600"/>
            </a:xfrm>
            <a:custGeom>
              <a:avLst/>
              <a:gdLst/>
              <a:ahLst/>
              <a:rect l="l" t="t" r="r" b="b"/>
              <a:pathLst>
                <a:path w="4808" h="1000">
                  <a:moveTo>
                    <a:pt x="8" y="824"/>
                  </a:moveTo>
                  <a:cubicBezTo>
                    <a:pt x="4" y="884"/>
                    <a:pt x="0" y="944"/>
                    <a:pt x="56" y="824"/>
                  </a:cubicBezTo>
                  <a:cubicBezTo>
                    <a:pt x="112" y="704"/>
                    <a:pt x="200" y="96"/>
                    <a:pt x="344" y="104"/>
                  </a:cubicBezTo>
                  <a:cubicBezTo>
                    <a:pt x="488" y="112"/>
                    <a:pt x="784" y="768"/>
                    <a:pt x="920" y="872"/>
                  </a:cubicBezTo>
                  <a:cubicBezTo>
                    <a:pt x="1056" y="976"/>
                    <a:pt x="1064" y="864"/>
                    <a:pt x="1160" y="728"/>
                  </a:cubicBezTo>
                  <a:cubicBezTo>
                    <a:pt x="1256" y="592"/>
                    <a:pt x="1344" y="24"/>
                    <a:pt x="1496" y="56"/>
                  </a:cubicBezTo>
                  <a:cubicBezTo>
                    <a:pt x="1648" y="88"/>
                    <a:pt x="1872" y="928"/>
                    <a:pt x="2072" y="920"/>
                  </a:cubicBezTo>
                  <a:cubicBezTo>
                    <a:pt x="2272" y="912"/>
                    <a:pt x="2472" y="16"/>
                    <a:pt x="2696" y="8"/>
                  </a:cubicBezTo>
                  <a:cubicBezTo>
                    <a:pt x="2920" y="0"/>
                    <a:pt x="3216" y="872"/>
                    <a:pt x="3416" y="872"/>
                  </a:cubicBezTo>
                  <a:cubicBezTo>
                    <a:pt x="3616" y="872"/>
                    <a:pt x="3736" y="8"/>
                    <a:pt x="3896" y="8"/>
                  </a:cubicBezTo>
                  <a:cubicBezTo>
                    <a:pt x="4056" y="8"/>
                    <a:pt x="4224" y="744"/>
                    <a:pt x="4376" y="872"/>
                  </a:cubicBezTo>
                  <a:cubicBezTo>
                    <a:pt x="4528" y="1000"/>
                    <a:pt x="4736" y="792"/>
                    <a:pt x="4808" y="7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76520" y="22863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22100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10440" y="21337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15560" y="2210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720" y="4648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Concept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4440" y="45723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Theory of new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520" y="47246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2040" y="45723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Inertia br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ion of Nature’s economy to the Human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rapid switch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atio of Indirect vs Direct Costs of developments as nature’s economy shrinks and the human economy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2098800"/>
            <a:ext cx="69534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oving goal po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lerating scale and speed of sustainability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pare for strategies to suffer rapid obsolescence </a:t>
            </a:r>
            <a:br>
              <a:rPr sz="32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due to failure to address fundamental issues and real uncertainty about real unfolding environmental and social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st option is to anchor on making a full and fast transition to a truly sustainable economy/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24000" y="2133720"/>
            <a:ext cx="4535640" cy="3457440"/>
          </a:xfrm>
          <a:prstGeom prst="ellipse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2276640"/>
            <a:ext cx="4105080" cy="3170160"/>
          </a:xfrm>
          <a:prstGeom prst="ellipse">
            <a:avLst/>
          </a:prstGeom>
          <a:solidFill>
            <a:srgbClr val="c4e4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meostatic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2565360"/>
            <a:ext cx="3529080" cy="2665440"/>
          </a:xfrm>
          <a:prstGeom prst="ellipse">
            <a:avLst/>
          </a:prstGeom>
          <a:solidFill>
            <a:srgbClr val="b4d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7640" y="3645000"/>
            <a:ext cx="2174760" cy="1054080"/>
          </a:xfrm>
          <a:custGeom>
            <a:avLst/>
            <a:gdLst/>
            <a:ahLst/>
            <a:rect l="l" t="t" r="r" b="b"/>
            <a:pathLst>
              <a:path w="1370" h="664">
                <a:moveTo>
                  <a:pt x="1370" y="663"/>
                </a:moveTo>
                <a:cubicBezTo>
                  <a:pt x="1209" y="653"/>
                  <a:pt x="633" y="664"/>
                  <a:pt x="405" y="604"/>
                </a:cubicBezTo>
                <a:cubicBezTo>
                  <a:pt x="177" y="544"/>
                  <a:pt x="6" y="395"/>
                  <a:pt x="3" y="302"/>
                </a:cubicBezTo>
                <a:cubicBezTo>
                  <a:pt x="0" y="209"/>
                  <a:pt x="189" y="92"/>
                  <a:pt x="387" y="46"/>
                </a:cubicBezTo>
                <a:cubicBezTo>
                  <a:pt x="585" y="0"/>
                  <a:pt x="1022" y="32"/>
                  <a:pt x="1189" y="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285264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afety zone o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39280" y="3429000"/>
            <a:ext cx="863640" cy="647640"/>
          </a:xfrm>
          <a:custGeom>
            <a:avLst/>
            <a:gdLst/>
            <a:ahLst/>
            <a:rect l="l" t="t" r="r" b="b"/>
            <a:pathLst>
              <a:path w="375" h="622">
                <a:moveTo>
                  <a:pt x="0" y="622"/>
                </a:moveTo>
                <a:cubicBezTo>
                  <a:pt x="62" y="517"/>
                  <a:pt x="297" y="130"/>
                  <a:pt x="3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35772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2997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263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24240" y="3933720"/>
            <a:ext cx="1423800" cy="1133640"/>
          </a:xfrm>
          <a:custGeom>
            <a:avLst/>
            <a:gdLst/>
            <a:ahLst/>
            <a:rect l="l" t="t" r="r" b="b"/>
            <a:pathLst>
              <a:path w="897" h="714">
                <a:moveTo>
                  <a:pt x="219" y="0"/>
                </a:moveTo>
                <a:cubicBezTo>
                  <a:pt x="240" y="63"/>
                  <a:pt x="172" y="91"/>
                  <a:pt x="119" y="109"/>
                </a:cubicBezTo>
                <a:cubicBezTo>
                  <a:pt x="72" y="141"/>
                  <a:pt x="41" y="163"/>
                  <a:pt x="9" y="210"/>
                </a:cubicBezTo>
                <a:cubicBezTo>
                  <a:pt x="15" y="262"/>
                  <a:pt x="0" y="284"/>
                  <a:pt x="36" y="311"/>
                </a:cubicBezTo>
                <a:cubicBezTo>
                  <a:pt x="54" y="324"/>
                  <a:pt x="73" y="335"/>
                  <a:pt x="91" y="347"/>
                </a:cubicBezTo>
                <a:cubicBezTo>
                  <a:pt x="100" y="353"/>
                  <a:pt x="119" y="365"/>
                  <a:pt x="119" y="365"/>
                </a:cubicBezTo>
                <a:cubicBezTo>
                  <a:pt x="182" y="355"/>
                  <a:pt x="240" y="335"/>
                  <a:pt x="301" y="320"/>
                </a:cubicBezTo>
                <a:cubicBezTo>
                  <a:pt x="327" y="247"/>
                  <a:pt x="307" y="211"/>
                  <a:pt x="393" y="183"/>
                </a:cubicBezTo>
                <a:cubicBezTo>
                  <a:pt x="434" y="189"/>
                  <a:pt x="456" y="182"/>
                  <a:pt x="484" y="210"/>
                </a:cubicBezTo>
                <a:cubicBezTo>
                  <a:pt x="492" y="218"/>
                  <a:pt x="494" y="231"/>
                  <a:pt x="503" y="237"/>
                </a:cubicBezTo>
                <a:cubicBezTo>
                  <a:pt x="519" y="247"/>
                  <a:pt x="541" y="246"/>
                  <a:pt x="557" y="256"/>
                </a:cubicBezTo>
                <a:cubicBezTo>
                  <a:pt x="566" y="262"/>
                  <a:pt x="576" y="268"/>
                  <a:pt x="585" y="274"/>
                </a:cubicBezTo>
                <a:cubicBezTo>
                  <a:pt x="591" y="283"/>
                  <a:pt x="600" y="291"/>
                  <a:pt x="603" y="301"/>
                </a:cubicBezTo>
                <a:cubicBezTo>
                  <a:pt x="607" y="316"/>
                  <a:pt x="621" y="380"/>
                  <a:pt x="603" y="402"/>
                </a:cubicBezTo>
                <a:cubicBezTo>
                  <a:pt x="595" y="412"/>
                  <a:pt x="579" y="413"/>
                  <a:pt x="567" y="420"/>
                </a:cubicBezTo>
                <a:cubicBezTo>
                  <a:pt x="471" y="475"/>
                  <a:pt x="434" y="468"/>
                  <a:pt x="301" y="475"/>
                </a:cubicBezTo>
                <a:cubicBezTo>
                  <a:pt x="298" y="484"/>
                  <a:pt x="290" y="493"/>
                  <a:pt x="292" y="503"/>
                </a:cubicBezTo>
                <a:cubicBezTo>
                  <a:pt x="294" y="512"/>
                  <a:pt x="305" y="514"/>
                  <a:pt x="311" y="521"/>
                </a:cubicBezTo>
                <a:cubicBezTo>
                  <a:pt x="318" y="529"/>
                  <a:pt x="321" y="541"/>
                  <a:pt x="329" y="548"/>
                </a:cubicBezTo>
                <a:cubicBezTo>
                  <a:pt x="339" y="557"/>
                  <a:pt x="354" y="559"/>
                  <a:pt x="365" y="567"/>
                </a:cubicBezTo>
                <a:cubicBezTo>
                  <a:pt x="372" y="572"/>
                  <a:pt x="378" y="579"/>
                  <a:pt x="384" y="585"/>
                </a:cubicBezTo>
                <a:cubicBezTo>
                  <a:pt x="416" y="649"/>
                  <a:pt x="457" y="646"/>
                  <a:pt x="521" y="667"/>
                </a:cubicBezTo>
                <a:cubicBezTo>
                  <a:pt x="576" y="704"/>
                  <a:pt x="713" y="713"/>
                  <a:pt x="713" y="713"/>
                </a:cubicBezTo>
                <a:cubicBezTo>
                  <a:pt x="790" y="700"/>
                  <a:pt x="752" y="714"/>
                  <a:pt x="823" y="667"/>
                </a:cubicBezTo>
                <a:cubicBezTo>
                  <a:pt x="832" y="661"/>
                  <a:pt x="850" y="649"/>
                  <a:pt x="850" y="649"/>
                </a:cubicBezTo>
                <a:cubicBezTo>
                  <a:pt x="853" y="631"/>
                  <a:pt x="851" y="611"/>
                  <a:pt x="859" y="594"/>
                </a:cubicBezTo>
                <a:cubicBezTo>
                  <a:pt x="864" y="582"/>
                  <a:pt x="884" y="580"/>
                  <a:pt x="887" y="567"/>
                </a:cubicBezTo>
                <a:cubicBezTo>
                  <a:pt x="897" y="531"/>
                  <a:pt x="893" y="494"/>
                  <a:pt x="896" y="457"/>
                </a:cubicBezTo>
                <a:cubicBezTo>
                  <a:pt x="884" y="399"/>
                  <a:pt x="872" y="309"/>
                  <a:pt x="813" y="274"/>
                </a:cubicBezTo>
                <a:cubicBezTo>
                  <a:pt x="787" y="259"/>
                  <a:pt x="750" y="256"/>
                  <a:pt x="722" y="247"/>
                </a:cubicBezTo>
                <a:cubicBezTo>
                  <a:pt x="700" y="224"/>
                  <a:pt x="676" y="219"/>
                  <a:pt x="649" y="201"/>
                </a:cubicBezTo>
                <a:cubicBezTo>
                  <a:pt x="631" y="144"/>
                  <a:pt x="653" y="147"/>
                  <a:pt x="704" y="137"/>
                </a:cubicBezTo>
                <a:cubicBezTo>
                  <a:pt x="728" y="140"/>
                  <a:pt x="777" y="146"/>
                  <a:pt x="777" y="1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429264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99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371628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3429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99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28880" y="552600"/>
            <a:ext cx="52862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andling multi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ick calibrat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. Climate change, peaking of world production of conventional cheap oil, water shortage, food shortage/high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ick issues that must affect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.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freezing of old patterns permits free kicks (and added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conomic and social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ener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2362320"/>
            <a:ext cx="2057400" cy="2057400"/>
            <a:chOff x="380880" y="2362320"/>
            <a:chExt cx="2057400" cy="2057400"/>
          </a:xfrm>
        </p:grpSpPr>
        <p:sp>
          <p:nvSpPr>
            <p:cNvPr id="76" name=""/>
            <p:cNvSpPr/>
            <p:nvPr/>
          </p:nvSpPr>
          <p:spPr>
            <a:xfrm>
              <a:off x="380880" y="2362320"/>
              <a:ext cx="2057400" cy="20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160" y="281952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Current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629400" y="2438280"/>
            <a:ext cx="2057400" cy="2057400"/>
            <a:chOff x="6629400" y="2438280"/>
            <a:chExt cx="2057400" cy="2057400"/>
          </a:xfrm>
        </p:grpSpPr>
        <p:sp>
          <p:nvSpPr>
            <p:cNvPr id="79" name=""/>
            <p:cNvSpPr/>
            <p:nvPr/>
          </p:nvSpPr>
          <p:spPr>
            <a:xfrm>
              <a:off x="6629400" y="2438280"/>
              <a:ext cx="2057400" cy="20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1680" y="28954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New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666880" y="2819520"/>
            <a:ext cx="3733560" cy="1066680"/>
            <a:chOff x="2666880" y="2819520"/>
            <a:chExt cx="3733560" cy="1066680"/>
          </a:xfrm>
        </p:grpSpPr>
        <p:sp>
          <p:nvSpPr>
            <p:cNvPr id="82" name=""/>
            <p:cNvSpPr/>
            <p:nvPr/>
          </p:nvSpPr>
          <p:spPr>
            <a:xfrm>
              <a:off x="2666880" y="2819520"/>
              <a:ext cx="373356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43000" y="3055320"/>
              <a:ext cx="3180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Transition 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(driven by active interven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438280" y="16002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world has its own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352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3352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78040" y="3735360"/>
            <a:ext cx="4102200" cy="496800"/>
          </a:xfrm>
          <a:custGeom>
            <a:avLst/>
            <a:gdLst/>
            <a:ahLst/>
            <a:rect l="l" t="t" r="r" b="b"/>
            <a:pathLst>
              <a:path w="2584" h="313">
                <a:moveTo>
                  <a:pt x="2584" y="313"/>
                </a:moveTo>
                <a:lnTo>
                  <a:pt x="0" y="31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43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ck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tretch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7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0:03:25Z</dcterms:created>
  <dc:creator>Philip Sutton</dc:creator>
  <dc:description/>
  <dc:language>en-US</dc:language>
  <cp:lastModifiedBy>Philip Sutton</cp:lastModifiedBy>
  <dcterms:modified xsi:type="dcterms:W3CDTF">2007-05-26T07:04:56Z</dcterms:modified>
  <cp:revision>202</cp:revision>
  <dc:subject/>
  <dc:title>The science of greenhouse gas reduction targets What is needed to avoid dangerous climate change? </dc:title>
</cp:coreProperties>
</file>